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F1175-6906-465C-AE8C-F9DE16514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E1813-50E5-46D0-94A6-1C7FF5C6C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52BDF-F712-4747-A248-BD6B0EA12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93F80-82D5-42E7-833F-006FA256F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C2CAD-E23F-4750-87C5-45089DF16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DF93F-3A4F-4FE4-8974-929D8AC03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2D256-9F2F-4354-AEF4-9BF33FAAB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AC3A5-41B1-4D87-BCA4-042ABB871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5C2CF-C401-4AD2-B0F1-8F936CA88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61490-A09D-4F72-99FA-35D39465D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F410D-DAF5-455D-B5AD-1946F3BFE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E1347-0000-4A85-9B20-9DCB21169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ED528-F30B-47F2-9EAD-56BB24BB3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E28B2-55F0-4394-A6D3-D547BE078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99894-F9FE-402E-B1B3-B85B8CB10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531B7-6FC5-4030-B12F-EF8755801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62EAD-F4D8-4FE6-93B5-DECE133C1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1735F-8971-4802-A569-C43F5E2E6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31AAA-1C4D-4170-B401-933ADA633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38ACC-E5D3-4BF2-936B-64EA78838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606FF-391C-4C37-861A-ACEEAC46A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79FB7-135F-4EBC-8BE8-D6E519E4C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7A8D-411E-406D-9131-B3C853D3C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94DDE-14D5-4355-906B-67299A793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5490-5533-40A3-AC9D-F4CF70ADCD0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909B-FC9B-4DA4-A2E6-A52AA3E1678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ll State Funding</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ree different degrees of state participation are possible for financing and operating public school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State operation</a:t>
            </a:r>
            <a:r>
              <a:rPr b="0" lang="en-US" sz="2400" spc="-1" strike="noStrike">
                <a:solidFill>
                  <a:srgbClr val="003366"/>
                </a:solidFill>
                <a:latin typeface="Arial"/>
              </a:rPr>
              <a:t> – substantial reductions in the administrative and operational responsibilities of local bo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Complete state operation</a:t>
            </a:r>
            <a:r>
              <a:rPr b="0" lang="en-US" sz="2400" spc="-1" strike="noStrike">
                <a:solidFill>
                  <a:srgbClr val="003366"/>
                </a:solidFill>
                <a:latin typeface="Arial"/>
              </a:rPr>
              <a:t> – elimination of locally raised funds but with state basic programs increased to adequate level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Foundational program</a:t>
            </a:r>
            <a:r>
              <a:rPr b="0" lang="en-US" sz="2400" spc="-1" strike="noStrike">
                <a:solidFill>
                  <a:srgbClr val="003366"/>
                </a:solidFill>
                <a:latin typeface="Arial"/>
              </a:rPr>
              <a:t> - state funds added to local tax funds to produce a state-guaranteed level of school suppor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mifications of State Funding</a:t>
            </a:r>
            <a:endParaRPr b="1" lang="en-US" sz="32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erns ar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crease in state control of local schools and a corresponding decrease in the power and authority of local school board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te would exercise the power to determine the amount of revenue in every district with little regard for the educational needs or desires of the local citizenr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no way to determine which districts should be given the funds necessary to explore innovative practices or encouraged to become exemplary.</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trict Power Equalization</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lternative to full state funding is </a:t>
            </a:r>
            <a:r>
              <a:rPr b="0" i="1" lang="en-US" sz="2800" spc="-1" strike="noStrike">
                <a:solidFill>
                  <a:srgbClr val="003366"/>
                </a:solidFill>
                <a:latin typeface="Arial"/>
              </a:rPr>
              <a:t>district power equalization (DP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s a poor school district with the power to obtain as much revenue per student as more wealthy distric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local district mill levy should produce the same number of dollars of total school revenue per mill per weighted student in every disctr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ermining the Best Finance Plan</a:t>
            </a:r>
            <a:endParaRPr b="1" lang="en-US" sz="32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no perfect systems for distributing state funds to local school districts.  Each plan has limitations and falls short of equalizing financial resources to the complete satisfaction of all the people concerne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chool systems are better than others and some states make greater efforts to improve than oth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228600"/>
            <a:ext cx="8001000" cy="1295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ermining the Best Finance Plan</a:t>
            </a:r>
            <a:endParaRPr b="1" lang="en-US" sz="3200" spc="-1" strike="noStrike">
              <a:solidFill>
                <a:srgbClr val="006666"/>
              </a:solidFill>
              <a:latin typeface="Arial"/>
            </a:endParaRPr>
          </a:p>
        </p:txBody>
      </p:sp>
      <p:sp>
        <p:nvSpPr>
          <p:cNvPr id="1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afe to assume that school financing plans of the future will emphasize greater state involvement and proportionately less local responsibili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the property tax is the realistic source of local revenue, it is evident that state tax sources will have to be increased  to meet the surging costs of educ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ales tax and income tax are used mostly by the state government.  These taxes are probably going to increase in order to finance the high-quality education programs that nearly all citizens dema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ncipal Types of Weightings</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ny consideration of the number of pupils as a determinant of the money needs of a district, several important weightings could be considered: (1) the sparsity or isolation of pupils in rural areas, (2) the density of pupils in heavily populated metropolitan areas, (3) the grade levels of pupils, and (4) the degree of disadvantage certain classes of pupils may suffer, such as those who require special education servic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ncipal Types of Weightings</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ideration should also be given to the training and experience of the professional staff members of each district.  To consider all pupils to be of equal worth or cost is no more erroneous than to consider all teachers to be of equal worth or cost to a school syst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iscellaneous Weighting Factors</a:t>
            </a:r>
            <a:endParaRPr b="1" lang="en-US" sz="32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other weighting factors can reasonably be expected in state foundation programs.  Notable examples include provisions of funds for transportation, administrative and other professional nonteachng personnel, and capital outlay or debt servi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5T15:51:57Z</dcterms:created>
  <dc:creator>Cynthia Altemueller</dc:creator>
  <dc:description/>
  <dc:language>en-US</dc:language>
  <cp:lastModifiedBy>AEURY</cp:lastModifiedBy>
  <dcterms:modified xsi:type="dcterms:W3CDTF">2007-01-04T17:53:21Z</dcterms:modified>
  <cp:revision>4</cp:revision>
  <dc:subject/>
  <dc:title>Finance in Eduation</dc:title>
</cp:coreProperties>
</file>